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797-FE4D-4956-8062-3D315B01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928-DD93-469A-B24F-2529E911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305-6013-4C2D-B7CA-3052C23E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620-6A96-4FDB-8436-4764A075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67D4-3656-4AB1-9DCC-CFEF7C7E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1590-6A7A-4FB7-8667-AC0DB27A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98CD-E297-4192-8869-A9ECC406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7F1E-BB73-451D-8CFB-29FA0F3B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9180-FA15-44F5-BE42-9D31749E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3669-11A9-4184-9247-5683A020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8018-AE9C-4FB4-86E7-3CCB0871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A8B-FB0D-4123-A585-E0B1E702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E61C-B06C-40F9-8900-9B20ED3F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B671-840E-47CD-AA2A-F1ED6580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D7B6-8520-4A32-B2E3-FB14091B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3E65-61D8-4D6F-9D4A-64131923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8AC8-CCB2-4396-8135-6AED6D20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577-FC4D-4383-B8E2-0F9281E0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7D1-5BB5-4053-9AE3-0AFDF080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C84-2543-4E22-B4D8-0144E6D7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A69-2A48-42FC-A31D-64656C5A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0A4-A91A-4DE1-9760-85BE0E98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688-90A8-4437-ADA7-3DE838C9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79B-22D3-48BA-9209-111AFCC2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6C8B-5E66-40E5-958D-EA91B2816A1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A181-096E-43A6-84EA-701752E88C2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Средства деловой графики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79640" y="43657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Построение диаграмм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4365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Построение диаграмм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a3d7a"/>
                </a:solidFill>
                <a:latin typeface="Times New Roman"/>
              </a:rPr>
              <a:t>Гистограмма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828800"/>
          <a:ext cx="4495680" cy="39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449568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Используется для выражения соотношения различных видов данных, не связанных функциональной зависимостью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a3d7a"/>
                </a:solidFill>
                <a:latin typeface="Times New Roman"/>
              </a:rPr>
              <a:t>График функции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98440" y="2058840"/>
          <a:ext cx="4583160" cy="42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2058840"/>
                    <a:ext cx="458316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Функция задается таблицей из двух столбцов: левый – значения аргумента, правый – значение функц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На одной диаграмме может быть представлено несколько функций одного аргумент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3d7a"/>
                </a:solidFill>
                <a:latin typeface="Times New Roman"/>
              </a:rPr>
              <a:t>Круговая диаграмма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3520" y="2133720"/>
          <a:ext cx="4495680" cy="32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449568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Представляет данные одной строки (столбца) таблицы, показывая долю значения каждой ячейки в общей сумме данных строки (столбца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Каждый сектор диаграммы соответствует данным одной ячей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76464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Большинство диаграмм строятся в прямоугольной системе координат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По горизонтальной оси Х откладываются значения независимой переменной (АРГУМЕНТА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По вертикальной оси </a:t>
            </a: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  - значения зависимой переменной (ФУНКЦИИ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На один рисунок может быть выведено одновременно несколько диаграмм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При графической обработке числовой информации с помощью электронных таблиц следует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Указать область данных (интервал, диапазон), по которым будет строиться диаграмм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Определить последовательность  выбора данных ( по строкам или по столбцам) из выбранного интервала ячее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691920"/>
            <a:ext cx="777240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и выборе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о столбцам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Х-координаты берутся из крайнего левого столбца выделенного интервала  ячеек. Остальные столбцы содержат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- координаты  диаграм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и выборе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о строкам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самая верхняя строка выделенного интервала ячеек является строкой Х-координат, остальные строки содержат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-координат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765000"/>
          <a:ext cx="9144000" cy="60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91440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042920" y="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304a0"/>
                </a:solidFill>
                <a:latin typeface="Times New Roman"/>
              </a:rPr>
              <a:t>Ряды в столбцах для задачи про озер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123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42920" y="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Ряды в строках для задачи про озер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549360"/>
            <a:ext cx="777240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Создать диаграмму или график легче всего с помощью МАСТЕРА ДИАГРАММ. Это функция </a:t>
            </a: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EXCEL,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 которая с помощью диалоговых окон позволяет получить всю необходимую информацию для построения диаграммы или графика и внедрения его в рабочий лис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12000" y="4221000"/>
            <a:ext cx="1639800" cy="1589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03280" y="5300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Кнопка Мастера диаграмм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Упражнение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Графически представить данны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00000" y="2611440"/>
            <a:ext cx="7704360" cy="1563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5640" y="4653000"/>
            <a:ext cx="7920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Данные ввести самостоятельно, используя описанную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технологию  выполнения  работы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, начиная с пункта </a:t>
            </a:r>
            <a:r>
              <a:rPr b="0" lang="en-US" sz="4000" spc="-1" strike="noStrike">
                <a:solidFill>
                  <a:srgbClr val="a0043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762120"/>
            <a:ext cx="7696080" cy="44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В настоящее время очень быстро развивается одна из областей применения компьютеров – визуализация информации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Построение диаграмм – одно из основных средств деловой графики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Работа с презентацией закончен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Переходи к выполнению упражнений и задан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447920"/>
            <a:ext cx="7315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0043c"/>
                </a:solidFill>
                <a:latin typeface="Times New Roman"/>
              </a:rPr>
              <a:t>Диаграмма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 –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это средство наглядного графического изображения информации, предназначенное  для сравнения нескольких величин или нескольких значений одной величины, а также слежения за изменением их значени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304920"/>
            <a:ext cx="792468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В деловой, финансовой, экономической сферах роль диаграммы очень велика. Пусть получены в виде таблицы данные о работе 15-20 подразделений фирмы, включающие 10 показателей для каждого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Сколько же времени должен затратить экономист фирмы, выискивая в таблице минимальное и максимальное значение различных показателей, выявляя соотношения этих значений для разных подразделений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Подобный анализ многократно упрощается  при наличии диаграмм и график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1295280"/>
            <a:ext cx="746784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  <a:ea typeface="Times New Roman"/>
              </a:rPr>
              <a:t>Найти глубину самого мелкого озера, площадь самого обширного озера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b0a09"/>
                </a:solidFill>
                <a:latin typeface="Times New Roman"/>
              </a:rPr>
              <a:t>По таблице или по диаграмме проще найти ответ на вопрос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6176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0043c"/>
                </a:solidFill>
                <a:latin typeface="Times New Roman"/>
              </a:rPr>
              <a:t>По таблице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123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95640" y="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0043c"/>
                </a:solidFill>
                <a:latin typeface="Times New Roman"/>
              </a:rPr>
              <a:t>Или по диаграмме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ЭЛЕМЕНТЫ ДИАГРАМ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391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04000" y="1268280"/>
            <a:ext cx="1638360" cy="79236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41083"/>
              <a:gd name="adj5" fmla="val 81763"/>
              <a:gd name="adj6" fmla="val -79069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Times New Roman"/>
              </a:rPr>
              <a:t>Область построения диаграммы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9960" y="1082520"/>
            <a:ext cx="13636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587"/>
              <a:gd name="adj5" fmla="val 207814"/>
              <a:gd name="adj6" fmla="val -95342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Область диаграммы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48680" y="2738520"/>
            <a:ext cx="91440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8333"/>
              <a:gd name="adj5" fmla="val 278347"/>
              <a:gd name="adj6" fmla="val -79166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легенда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5960" y="5978520"/>
            <a:ext cx="12211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240"/>
              <a:gd name="adj5" fmla="val -99217"/>
              <a:gd name="adj6" fmla="val -94666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Ось категорий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589720"/>
            <a:ext cx="1135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6712"/>
              <a:gd name="adj5" fmla="val -70833"/>
              <a:gd name="adj6" fmla="val 17440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Ось значений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39960" y="403560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8333"/>
              <a:gd name="adj5" fmla="val 160416"/>
              <a:gd name="adj6" fmla="val -71356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Подписи данных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ОСНОВНЫЕ ВИДЫ ДИАГРАММ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5:59:10Z</dcterms:created>
  <dc:creator>11</dc:creator>
  <dc:description/>
  <dc:language>en-US</dc:language>
  <cp:lastModifiedBy>Николай Ермошин</cp:lastModifiedBy>
  <dcterms:modified xsi:type="dcterms:W3CDTF">2006-11-20T23:05:54Z</dcterms:modified>
  <cp:revision>8</cp:revision>
  <dc:subject/>
  <dc:title>Диаграммы в текстовом документе</dc:title>
</cp:coreProperties>
</file>